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6.png" ContentType="image/pn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521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5320" y="4117680"/>
            <a:ext cx="8521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2120" y="137124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5320" y="411768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2120" y="411768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2743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6400" y="1371240"/>
            <a:ext cx="2743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17480" y="1371240"/>
            <a:ext cx="2743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55320" y="4117680"/>
            <a:ext cx="2743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6400" y="4117680"/>
            <a:ext cx="2743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17480" y="4117680"/>
            <a:ext cx="2743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55320" y="1371240"/>
            <a:ext cx="85215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749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52156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415836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2120" y="1371240"/>
            <a:ext cx="415836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90720" y="228240"/>
            <a:ext cx="716256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22120" y="1371240"/>
            <a:ext cx="415836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55320" y="411768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55320" y="1371240"/>
            <a:ext cx="85215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749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415836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22120" y="137124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22120" y="411768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2120" y="137124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55320" y="4117680"/>
            <a:ext cx="8521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521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5320" y="4117680"/>
            <a:ext cx="8521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22120" y="137124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55320" y="411768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22120" y="411768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2743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6400" y="1371240"/>
            <a:ext cx="2743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17480" y="1371240"/>
            <a:ext cx="2743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55320" y="4117680"/>
            <a:ext cx="2743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6400" y="4117680"/>
            <a:ext cx="2743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17480" y="4117680"/>
            <a:ext cx="2743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852156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415836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2120" y="1371240"/>
            <a:ext cx="415836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228240"/>
            <a:ext cx="716256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2120" y="1371240"/>
            <a:ext cx="415836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5320" y="411768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415836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2120" y="137124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2120" y="411768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5320" y="137124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2120" y="1371240"/>
            <a:ext cx="41583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5320" y="4117680"/>
            <a:ext cx="8521560" cy="2507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477280" y="6400800"/>
            <a:ext cx="476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5B65-BBE3-4DF0-9058-EE0AC2560C42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AFRL%20Shield%20transparent%20background%201INcopy" descr=""/>
          <p:cNvPicPr/>
          <p:nvPr/>
        </p:nvPicPr>
        <p:blipFill>
          <a:blip r:embed="rId2"/>
          <a:stretch/>
        </p:blipFill>
        <p:spPr>
          <a:xfrm>
            <a:off x="8153280" y="19080"/>
            <a:ext cx="905040" cy="898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914400" y="1219320"/>
            <a:ext cx="74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219320"/>
            <a:ext cx="7619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952560"/>
            <a:ext cx="9144000" cy="921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355320" y="1371240"/>
            <a:ext cx="852156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60360" indent="-360360">
              <a:spcBef>
                <a:spcPts val="17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749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28600" indent="-239760">
              <a:spcBef>
                <a:spcPts val="17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82840" indent="-239760">
              <a:spcBef>
                <a:spcPts val="1749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36720" indent="-239760">
              <a:spcBef>
                <a:spcPts val="17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36720" indent="-239760">
              <a:spcBef>
                <a:spcPts val="17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36720" indent="-239760">
              <a:spcBef>
                <a:spcPts val="17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chrmblue_std" descr=""/>
          <p:cNvPicPr/>
          <p:nvPr/>
        </p:nvPicPr>
        <p:blipFill>
          <a:blip r:embed="rId4"/>
          <a:srcRect l="16375" t="2376" r="12501" b="21272"/>
          <a:stretch/>
        </p:blipFill>
        <p:spPr>
          <a:xfrm>
            <a:off x="14400" y="-23760"/>
            <a:ext cx="1189080" cy="96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600" spc="-1" strike="noStrike">
                <a:solidFill>
                  <a:srgbClr val="0d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477280" y="6400800"/>
            <a:ext cx="476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2CFE-A2FD-43D7-B515-1EACD1CDCC11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219320"/>
            <a:ext cx="74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72880" y="3255840"/>
            <a:ext cx="3474720" cy="3170160"/>
            <a:chOff x="272880" y="3255840"/>
            <a:chExt cx="3474720" cy="3170160"/>
          </a:xfrm>
        </p:grpSpPr>
        <p:pic>
          <p:nvPicPr>
            <p:cNvPr id="48" name="chrmblue_std" descr=""/>
            <p:cNvPicPr/>
            <p:nvPr/>
          </p:nvPicPr>
          <p:blipFill>
            <a:blip r:embed="rId2"/>
            <a:srcRect l="16354" t="0" r="12484" b="21310"/>
            <a:stretch/>
          </p:blipFill>
          <p:spPr>
            <a:xfrm>
              <a:off x="272880" y="3504960"/>
              <a:ext cx="3474720" cy="29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AFRL%20Shield%20transparent%20background%201INcopy" descr=""/>
            <p:cNvPicPr/>
            <p:nvPr/>
          </p:nvPicPr>
          <p:blipFill>
            <a:blip r:embed="rId3"/>
            <a:stretch/>
          </p:blipFill>
          <p:spPr>
            <a:xfrm>
              <a:off x="1234800" y="3255840"/>
              <a:ext cx="1485720" cy="147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749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1500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8840" algn="ctr"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43080" algn="ctr"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96960" algn="ctr"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9696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96960"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2840" y="912600"/>
            <a:ext cx="8381880" cy="144756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600" spc="-1" strike="noStrike">
                <a:solidFill>
                  <a:srgbClr val="0d2b88"/>
                </a:solidFill>
                <a:latin typeface="Arial"/>
              </a:rPr>
              <a:t>Computer modeling of laser propagation and beam control through atmospheric turbulence:</a:t>
            </a:r>
            <a:br>
              <a:rPr sz="3600"/>
            </a:br>
            <a:r>
              <a:rPr b="1" lang="en-US" sz="3600" spc="-1" strike="noStrike">
                <a:solidFill>
                  <a:srgbClr val="0d2b88"/>
                </a:solidFill>
                <a:latin typeface="Arial"/>
              </a:rPr>
              <a:t>A WaveTrain Tutorial</a:t>
            </a:r>
            <a:endParaRPr b="1" lang="en-US" sz="36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30440" y="3762360"/>
            <a:ext cx="5418360" cy="24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tain Matthew R. Whiteley, Ph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borne Laser Technologies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RL/DE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ed Energy Directo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Force Research Labor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Tutorial Schedule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36400" y="1511280"/>
            <a:ext cx="8072280" cy="4853160"/>
            <a:chOff x="536400" y="1511280"/>
            <a:chExt cx="8072280" cy="4853160"/>
          </a:xfrm>
        </p:grpSpPr>
        <p:grpSp>
          <p:nvGrpSpPr>
            <p:cNvPr id="138" name=""/>
            <p:cNvGrpSpPr/>
            <p:nvPr/>
          </p:nvGrpSpPr>
          <p:grpSpPr>
            <a:xfrm>
              <a:off x="542520" y="1514880"/>
              <a:ext cx="8058600" cy="4845240"/>
              <a:chOff x="542520" y="1514880"/>
              <a:chExt cx="8058600" cy="484524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542520" y="1514880"/>
                <a:ext cx="2052720" cy="907920"/>
                <a:chOff x="542520" y="1514880"/>
                <a:chExt cx="2052720" cy="9079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633600" y="1514880"/>
                  <a:ext cx="187020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ystem Nam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42520" y="1514880"/>
                  <a:ext cx="205272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2595600" y="1514880"/>
                <a:ext cx="3320640" cy="907920"/>
                <a:chOff x="2595600" y="1514880"/>
                <a:chExt cx="3320640" cy="9079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686320" y="1514880"/>
                  <a:ext cx="313884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ystem Descrip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595600" y="1514880"/>
                  <a:ext cx="332064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5916600" y="1514880"/>
                <a:ext cx="2684520" cy="907920"/>
                <a:chOff x="5916600" y="1514880"/>
                <a:chExt cx="2684520" cy="9079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007680" y="1514880"/>
                  <a:ext cx="250200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incipl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916600" y="1514880"/>
                  <a:ext cx="2684520" cy="90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542520" y="2422800"/>
                <a:ext cx="2052720" cy="930600"/>
                <a:chOff x="542520" y="2422800"/>
                <a:chExt cx="2052720" cy="93060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633600" y="2422800"/>
                  <a:ext cx="1870200" cy="93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utA.ts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42520" y="2422800"/>
                  <a:ext cx="2052720" cy="93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2595600" y="2422800"/>
                <a:ext cx="3320640" cy="930600"/>
                <a:chOff x="2595600" y="2422800"/>
                <a:chExt cx="3320640" cy="9306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2686320" y="2422800"/>
                  <a:ext cx="3138840" cy="93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acuum propagation of laser from optical system to target boar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595600" y="2422800"/>
                  <a:ext cx="3320640" cy="93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5916600" y="2422800"/>
                <a:ext cx="2684520" cy="930600"/>
                <a:chOff x="5916600" y="2422800"/>
                <a:chExt cx="2684520" cy="93060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6007680" y="2422800"/>
                  <a:ext cx="2502000" cy="93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aveTrain user interface; building runset; data loading &amp; analysi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916600" y="2422800"/>
                  <a:ext cx="2684520" cy="93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542520" y="3353400"/>
                <a:ext cx="2052720" cy="787320"/>
                <a:chOff x="542520" y="3353400"/>
                <a:chExt cx="2052720" cy="7873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633600" y="3353400"/>
                  <a:ext cx="1870200" cy="78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indAtmoPath.ts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42520" y="3353400"/>
                  <a:ext cx="2052720" cy="78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2595600" y="3353400"/>
                <a:ext cx="3320640" cy="787320"/>
                <a:chOff x="2595600" y="3353400"/>
                <a:chExt cx="3320640" cy="7873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2686320" y="3353400"/>
                  <a:ext cx="3138840" cy="78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dd transverse velocity to atmospheric path, create subsyste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595600" y="3353400"/>
                  <a:ext cx="3320640" cy="78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5916600" y="3353400"/>
                <a:ext cx="2684520" cy="787320"/>
                <a:chOff x="5916600" y="3353400"/>
                <a:chExt cx="2684520" cy="7873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6007680" y="3353400"/>
                  <a:ext cx="2502000" cy="78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ystem inputs &amp; outputs; creating/using WaveTrain subsystem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916600" y="3353400"/>
                  <a:ext cx="2684520" cy="78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542520" y="4141080"/>
                <a:ext cx="2052720" cy="930240"/>
                <a:chOff x="542520" y="4141080"/>
                <a:chExt cx="2052720" cy="9302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633600" y="4141080"/>
                  <a:ext cx="1870200" cy="93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utB.ts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42520" y="4141080"/>
                  <a:ext cx="2052720" cy="93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2595600" y="4141080"/>
                <a:ext cx="3320640" cy="930240"/>
                <a:chOff x="2595600" y="4141080"/>
                <a:chExt cx="3320640" cy="9302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2686320" y="4141080"/>
                  <a:ext cx="3138840" cy="93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dd atmospheric path for propagation; Add point source &amp; imaging camer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595600" y="4141080"/>
                  <a:ext cx="3320640" cy="93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5916600" y="4141080"/>
                <a:ext cx="2684520" cy="930240"/>
                <a:chOff x="5916600" y="4141080"/>
                <a:chExt cx="2684520" cy="930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007680" y="4141080"/>
                  <a:ext cx="2502000" cy="93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andom turbulence realizations; Temporal turbulence effects; Beam projection vs. imag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916600" y="4141080"/>
                  <a:ext cx="2684520" cy="93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542520" y="5071320"/>
                <a:ext cx="2052720" cy="644400"/>
                <a:chOff x="542520" y="5071320"/>
                <a:chExt cx="2052720" cy="6444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33600" y="5071320"/>
                  <a:ext cx="1870200" cy="64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utC.ts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42520" y="5071320"/>
                  <a:ext cx="2052720" cy="64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2595600" y="5071320"/>
                <a:ext cx="3320640" cy="644400"/>
                <a:chOff x="2595600" y="5071320"/>
                <a:chExt cx="3320640" cy="64440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2686320" y="5071320"/>
                  <a:ext cx="3138840" cy="64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dd beam steering mirro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595600" y="5071320"/>
                  <a:ext cx="3320640" cy="64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5916600" y="5071320"/>
                <a:ext cx="2684520" cy="644400"/>
                <a:chOff x="5916600" y="5071320"/>
                <a:chExt cx="2684520" cy="64440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6007680" y="5071320"/>
                  <a:ext cx="2502000" cy="64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oordinate systems; pointing contro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916600" y="5071320"/>
                  <a:ext cx="2684520" cy="64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542520" y="5716080"/>
                <a:ext cx="2052720" cy="644040"/>
                <a:chOff x="542520" y="5716080"/>
                <a:chExt cx="2052720" cy="64404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633600" y="5716080"/>
                  <a:ext cx="1870200" cy="64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utD.ts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42520" y="5716080"/>
                  <a:ext cx="2052720" cy="64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2595600" y="5716080"/>
                <a:ext cx="3320640" cy="644040"/>
                <a:chOff x="2595600" y="5716080"/>
                <a:chExt cx="3320640" cy="64404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2686320" y="5716080"/>
                  <a:ext cx="3138840" cy="64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dd centroid process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595600" y="5716080"/>
                  <a:ext cx="3320640" cy="64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5916600" y="5716080"/>
                <a:ext cx="2684520" cy="644040"/>
                <a:chOff x="5916600" y="5716080"/>
                <a:chExt cx="2684520" cy="64404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6007680" y="5716080"/>
                  <a:ext cx="2502000" cy="64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amera processing in simulation environ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916600" y="5716080"/>
                  <a:ext cx="2684520" cy="64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3" name=""/>
            <p:cNvSpPr/>
            <p:nvPr/>
          </p:nvSpPr>
          <p:spPr>
            <a:xfrm>
              <a:off x="536400" y="1511280"/>
              <a:ext cx="8072280" cy="4853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Tutorial Schedule (cont.)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87240" y="1227240"/>
            <a:ext cx="7707240" cy="5343480"/>
            <a:chOff x="687240" y="1227240"/>
            <a:chExt cx="7707240" cy="5343480"/>
          </a:xfrm>
        </p:grpSpPr>
        <p:grpSp>
          <p:nvGrpSpPr>
            <p:cNvPr id="196" name=""/>
            <p:cNvGrpSpPr/>
            <p:nvPr/>
          </p:nvGrpSpPr>
          <p:grpSpPr>
            <a:xfrm>
              <a:off x="693000" y="1230840"/>
              <a:ext cx="7694280" cy="5335560"/>
              <a:chOff x="693000" y="1230840"/>
              <a:chExt cx="7694280" cy="533556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693000" y="1230840"/>
                <a:ext cx="1959840" cy="943920"/>
                <a:chOff x="693000" y="1230840"/>
                <a:chExt cx="1959840" cy="94392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780120" y="1230840"/>
                  <a:ext cx="1785600" cy="94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ystem Nam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93000" y="1230840"/>
                  <a:ext cx="1959840" cy="94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2653200" y="1230840"/>
                <a:ext cx="3170520" cy="943920"/>
                <a:chOff x="2653200" y="1230840"/>
                <a:chExt cx="3170520" cy="94392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2739960" y="1230840"/>
                  <a:ext cx="2997000" cy="94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ystem Descrip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653200" y="1230840"/>
                  <a:ext cx="3170520" cy="94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5824080" y="1230840"/>
                <a:ext cx="2563200" cy="943920"/>
                <a:chOff x="5824080" y="1230840"/>
                <a:chExt cx="2563200" cy="94392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5911200" y="1230840"/>
                  <a:ext cx="2388960" cy="94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incipl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824080" y="1230840"/>
                  <a:ext cx="2563200" cy="94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693000" y="2174760"/>
                <a:ext cx="1959840" cy="669600"/>
                <a:chOff x="693000" y="2174760"/>
                <a:chExt cx="1959840" cy="66960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780120" y="2174760"/>
                  <a:ext cx="1785600" cy="66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utE.ts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693000" y="2174760"/>
                  <a:ext cx="1959840" cy="66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2653200" y="2174760"/>
                <a:ext cx="3170520" cy="669600"/>
                <a:chOff x="2653200" y="2174760"/>
                <a:chExt cx="3170520" cy="66960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2739960" y="2174760"/>
                  <a:ext cx="2997000" cy="66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lose the track loo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653200" y="2174760"/>
                  <a:ext cx="3170520" cy="66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5824080" y="2174760"/>
                <a:ext cx="2563200" cy="669600"/>
                <a:chOff x="5824080" y="2174760"/>
                <a:chExt cx="2563200" cy="66960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911200" y="2174760"/>
                  <a:ext cx="2388960" cy="66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losed-loop beam steering/contro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824080" y="2174760"/>
                  <a:ext cx="2563200" cy="66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693000" y="2844720"/>
                <a:ext cx="1959840" cy="967680"/>
                <a:chOff x="693000" y="2844720"/>
                <a:chExt cx="1959840" cy="9676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780120" y="2844720"/>
                  <a:ext cx="1785600" cy="96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utF.ts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93000" y="2844720"/>
                  <a:ext cx="1959840" cy="96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2653200" y="2844720"/>
                <a:ext cx="3170520" cy="967680"/>
                <a:chOff x="2653200" y="2844720"/>
                <a:chExt cx="3170520" cy="9676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739960" y="2844720"/>
                  <a:ext cx="2997000" cy="96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dd incoherent extended target with target-end illumination; Add point source scoring sensor, target board process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653200" y="2844720"/>
                  <a:ext cx="3170520" cy="96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5824080" y="2844720"/>
                <a:ext cx="2563200" cy="967680"/>
                <a:chOff x="5824080" y="2844720"/>
                <a:chExt cx="2563200" cy="96768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5911200" y="2844720"/>
                  <a:ext cx="2388960" cy="96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peckle averaging methods; Reflectance maps; Tracking from extended sourc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824080" y="2844720"/>
                  <a:ext cx="2563200" cy="96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693000" y="3812400"/>
                <a:ext cx="1959840" cy="967320"/>
                <a:chOff x="693000" y="3812400"/>
                <a:chExt cx="1959840" cy="96732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780120" y="3812400"/>
                  <a:ext cx="1785600" cy="96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utG.ts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93000" y="3812400"/>
                  <a:ext cx="1959840" cy="96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2653200" y="3812400"/>
                <a:ext cx="3170520" cy="967320"/>
                <a:chOff x="2653200" y="3812400"/>
                <a:chExt cx="3170520" cy="96732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2739960" y="3812400"/>
                  <a:ext cx="2997000" cy="96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dd illuminator at system transmitt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653200" y="3812400"/>
                  <a:ext cx="3170520" cy="96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824080" y="3812400"/>
                <a:ext cx="2563200" cy="967320"/>
                <a:chOff x="5824080" y="3812400"/>
                <a:chExt cx="2563200" cy="96732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911200" y="3812400"/>
                  <a:ext cx="2388960" cy="96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tive illumination of target; incoherent target return; Beam reciprocity &amp; tilt indetermina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824080" y="3812400"/>
                  <a:ext cx="2563200" cy="96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693000" y="4780080"/>
                <a:ext cx="1959840" cy="967680"/>
                <a:chOff x="693000" y="4780080"/>
                <a:chExt cx="1959840" cy="96768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780120" y="4780080"/>
                  <a:ext cx="1785600" cy="96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utH.ts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93000" y="4780080"/>
                  <a:ext cx="1959840" cy="96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2653200" y="4780080"/>
                <a:ext cx="3170520" cy="967680"/>
                <a:chOff x="2653200" y="4780080"/>
                <a:chExt cx="3170520" cy="96768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2739960" y="4780080"/>
                  <a:ext cx="2997000" cy="96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turn to point source reference, add higher-order wave-front senso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653200" y="4780080"/>
                  <a:ext cx="3170520" cy="96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5824080" y="4780080"/>
                <a:ext cx="2563200" cy="967680"/>
                <a:chOff x="5824080" y="4780080"/>
                <a:chExt cx="2563200" cy="96768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5911200" y="4780080"/>
                  <a:ext cx="2388960" cy="96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FS inputs &amp; reconstructor outputs; Hartmann sensor imagery, slop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824080" y="4780080"/>
                  <a:ext cx="2563200" cy="96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693000" y="5747760"/>
                <a:ext cx="1959840" cy="818640"/>
                <a:chOff x="693000" y="5747760"/>
                <a:chExt cx="1959840" cy="8186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780120" y="5747760"/>
                  <a:ext cx="1785600" cy="81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utI.ts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93000" y="5747760"/>
                  <a:ext cx="1959840" cy="81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2653200" y="5747760"/>
                <a:ext cx="3170520" cy="818640"/>
                <a:chOff x="2653200" y="5747760"/>
                <a:chExt cx="3170520" cy="8186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2739960" y="5747760"/>
                  <a:ext cx="2997000" cy="81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losed-loop higher-order contro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653200" y="5747760"/>
                  <a:ext cx="3170520" cy="81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5824080" y="5747760"/>
                <a:ext cx="2563200" cy="818640"/>
                <a:chOff x="5824080" y="5747760"/>
                <a:chExt cx="2563200" cy="8186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5911200" y="5747760"/>
                  <a:ext cx="2388960" cy="81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igher-order beam compensation—fixed and random aberration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824080" y="5747760"/>
                  <a:ext cx="2563200" cy="81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1" name=""/>
            <p:cNvSpPr/>
            <p:nvPr/>
          </p:nvSpPr>
          <p:spPr>
            <a:xfrm>
              <a:off x="687240" y="1227240"/>
              <a:ext cx="7707240" cy="53434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Tutorial System A “TutA”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085760" y="1419120"/>
            <a:ext cx="7062840" cy="48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Subsystem “WindAtmoPath”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36600" y="1424160"/>
            <a:ext cx="8469360" cy="46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Tutorial System B “TutB”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014480" y="1311120"/>
            <a:ext cx="7162560" cy="508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Tutorial System C “TutC”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623880" y="1305000"/>
            <a:ext cx="777240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Tutorial System D “TutD”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876240" y="1216080"/>
            <a:ext cx="7388280" cy="53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Tutorial System E “TutE”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125360" y="1216080"/>
            <a:ext cx="6980400" cy="542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Tutorial System F “TutF”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011240" y="1139760"/>
            <a:ext cx="7120080" cy="553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Tutorial System G “TutG”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801720" y="1138320"/>
            <a:ext cx="7516800" cy="554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Wave-Optics” Simulation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55320" y="1182240"/>
            <a:ext cx="8521560" cy="5675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60360" indent="-36036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ulation” can mean many th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thing designed to look or act like something 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processing using synthetic signals:  random processes—inject signal with correct P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ng of a physical process—based on first-principles, physical laws, key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ve-Optic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ing propagation light with full wave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tial evolution given by Fresnel approx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ulence:  Kolmogorov phase screens, “Markov” model—uncorrelated phase induced at discrete 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Subsystem “WFSandRecon”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447920" y="1441440"/>
            <a:ext cx="6176880" cy="425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Tutorial System H “TutH”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003320" y="1149480"/>
            <a:ext cx="7118280" cy="553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Tutorial System I “TutI”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082520" y="1141560"/>
            <a:ext cx="7032960" cy="556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Why Simulation?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55320" y="1307880"/>
            <a:ext cx="852156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60360" indent="-360360"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ure of propagation through random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agation theory not (yet) fully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28600" indent="-23976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ytov approximation” only valid for weak scat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28600" indent="-23976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integral expressions complicated, do not provide general solution to wave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-optics simulation is a technique for solving wave equation even in strong turbu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x system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ory developed using simplifying assumptions—may not be valid for system being stud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fidelity:  Control systems, sensor effects, radi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architecture:  target illumination, local-loop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Simulation using Phase Screens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28920" y="1147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60360" indent="-360360">
              <a:spcBef>
                <a:spcPts val="1125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creen is produced independently using method previously describ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25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 size must be carefully chosen to account for diffraction eff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25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ylor’s frozen flow can be used to incorporate time eff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91520" y="61848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for each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14480" y="1397160"/>
            <a:ext cx="8301960" cy="4674960"/>
            <a:chOff x="114480" y="1397160"/>
            <a:chExt cx="8301960" cy="4674960"/>
          </a:xfrm>
        </p:grpSpPr>
        <p:graphicFrame>
          <p:nvGraphicFramePr>
            <p:cNvPr id="97" name=""/>
            <p:cNvGraphicFramePr/>
            <p:nvPr/>
          </p:nvGraphicFramePr>
          <p:xfrm>
            <a:off x="2998440" y="1397160"/>
            <a:ext cx="123156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98440" y="1397160"/>
                      <a:ext cx="1231560" cy="68580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99" name=""/>
            <p:cNvGraphicFramePr/>
            <p:nvPr/>
          </p:nvGraphicFramePr>
          <p:xfrm>
            <a:off x="863280" y="4089240"/>
            <a:ext cx="1523880" cy="660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63280" y="4089240"/>
                      <a:ext cx="1523880" cy="66060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01" name=""/>
            <p:cNvSpPr/>
            <p:nvPr/>
          </p:nvSpPr>
          <p:spPr>
            <a:xfrm flipH="1">
              <a:off x="1085040" y="5092560"/>
              <a:ext cx="4316040" cy="979560"/>
            </a:xfrm>
            <a:custGeom>
              <a:avLst/>
              <a:gdLst>
                <a:gd name="textAreaLeft" fmla="*/ 802080 w 4316040"/>
                <a:gd name="textAreaRight" fmla="*/ 3081600 w 4316040"/>
                <a:gd name="textAreaTop" fmla="*/ 131040 h 979560"/>
                <a:gd name="textAreaBottom" fmla="*/ 848520 h 9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035" hR="21600" stAng="10800000" swAng="-5400000"/>
                  <a:lnTo>
                    <a:pt x="11406" y="21600"/>
                  </a:lnTo>
                  <a:arcTo wR="8035" hR="21600" stAng="5400000" swAng="-2787234"/>
                  <a:lnTo>
                    <a:pt x="21140" y="7200"/>
                  </a:lnTo>
                  <a:lnTo>
                    <a:pt x="17755" y="0"/>
                  </a:lnTo>
                  <a:lnTo>
                    <a:pt x="13449" y="7200"/>
                  </a:lnTo>
                  <a:lnTo>
                    <a:pt x="15609" y="7200"/>
                  </a:lnTo>
                  <a:arcTo wR="8035" hR="21600" stAng="2612766" swAng="2513453"/>
                  <a:lnTo>
                    <a:pt x="9720" y="21119"/>
                  </a:lnTo>
                  <a:arcTo wR="8035" hR="21600" stAng="5673780" swAng="5126220"/>
                  <a:close/>
                </a:path>
                <a:path fill="darkenLess" w="21600" h="21600">
                  <a:moveTo>
                    <a:pt x="0" y="0"/>
                  </a:moveTo>
                  <a:arcTo wR="8035" hR="21600" stAng="10800000" swAng="-5400000"/>
                  <a:lnTo>
                    <a:pt x="11406" y="21600"/>
                  </a:lnTo>
                  <a:arcTo wR="8035" hR="21600" stAng="5400000" swAng="273780"/>
                  <a:lnTo>
                    <a:pt x="9720" y="21119"/>
                  </a:lnTo>
                  <a:arcTo wR="8035" hR="21600" stAng="5673780" swAng="512622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78240" y="1511280"/>
              <a:ext cx="763200" cy="1905120"/>
            </a:xfrm>
            <a:custGeom>
              <a:avLst/>
              <a:gdLst>
                <a:gd name="textAreaLeft" fmla="*/ 102240 w 763200"/>
                <a:gd name="textAreaRight" fmla="*/ 660960 w 763200"/>
                <a:gd name="textAreaTop" fmla="*/ 333360 h 1905120"/>
                <a:gd name="textAreaBottom" fmla="*/ 138132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4480" y="2895480"/>
              <a:ext cx="715680" cy="1905120"/>
            </a:xfrm>
            <a:custGeom>
              <a:avLst/>
              <a:gdLst>
                <a:gd name="textAreaLeft" fmla="*/ 95760 w 715680"/>
                <a:gd name="textAreaRight" fmla="*/ 619920 w 715680"/>
                <a:gd name="textAreaTop" fmla="*/ 333360 h 1905120"/>
                <a:gd name="textAreaBottom" fmla="*/ 138132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20640" y="4229280"/>
              <a:ext cx="1066320" cy="380880"/>
            </a:xfrm>
            <a:prstGeom prst="rightArrow">
              <a:avLst>
                <a:gd name="adj1" fmla="val 50000"/>
                <a:gd name="adj2" fmla="val 6999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c1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6959520" y="4241160"/>
              <a:ext cx="1218600" cy="990360"/>
            </a:xfrm>
            <a:custGeom>
              <a:avLst/>
              <a:gdLst>
                <a:gd name="textAreaLeft" fmla="*/ 406080 w 1218600"/>
                <a:gd name="textAreaRight" fmla="*/ 1044000 w 1218600"/>
                <a:gd name="textAreaTop" fmla="*/ 570240 h 990360"/>
                <a:gd name="textAreaBottom" fmla="*/ 84852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c1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6" name=""/>
            <p:cNvGraphicFramePr/>
            <p:nvPr/>
          </p:nvGraphicFramePr>
          <p:xfrm>
            <a:off x="7273800" y="5295960"/>
            <a:ext cx="1142640" cy="685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273800" y="5295960"/>
                      <a:ext cx="1142640" cy="68580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849240" y="2471760"/>
            <a:ext cx="3415680" cy="1117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49240" y="2471760"/>
                      <a:ext cx="3415680" cy="111744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3524040" y="3852720"/>
            <a:ext cx="3403080" cy="1117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524040" y="3852720"/>
                      <a:ext cx="3403080" cy="111780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What is WaveTrain?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42720" y="1231560"/>
            <a:ext cx="8521560" cy="5537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60360" indent="-360360"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user platform for wave-optics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WOCs are single-user, “fixed” code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toolset for system assembly—use GUI to construct C++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-oriented code permits modularity,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s::WaveTrain as mfiles::Matl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ment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s on existing WOCs—ACS, MOLLY, YAPs, tO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ed by AFRL/DE SBIR—MZA Associ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development supported by individual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erging commercial user base:  everything from eye surgery to HEL resonator design (AO fits in there somewhere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828800" y="1138320"/>
            <a:ext cx="5334120" cy="427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41911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29000" y="396252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6477120" y="4114800"/>
            <a:ext cx="2590560" cy="2590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317840" y="216000"/>
            <a:ext cx="4529160" cy="1739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pagation Model:  NOP-Salinas Pe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75 m aperture telescope, 50 km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icron wave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xCLEAR-1 atmosp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m/s uniform wi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 Hz frame rate, 0.2 sec 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294920" y="36576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447560" y="2590920"/>
            <a:ext cx="53316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5105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08760" y="35053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7560" y="2717640"/>
            <a:ext cx="164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amera im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f point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0680" y="3511440"/>
            <a:ext cx="149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cident pup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59760" y="2916360"/>
            <a:ext cx="1712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mage of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0.50 m dia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ircle over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70400" y="5572080"/>
            <a:ext cx="76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up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-152280" y="-685800"/>
            <a:ext cx="9144000" cy="914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ABL SPO IVV&amp;A Model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7360" y="1087560"/>
            <a:ext cx="5673960" cy="4170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334120" y="1638360"/>
            <a:ext cx="3809880" cy="2933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3575160"/>
            <a:ext cx="4114800" cy="3282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419720" y="541008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WaveTrain ABL model will be the government code for assessing PDRR system tests &amp; for beam control technology tran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7520" bIns="475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0d2b88"/>
                </a:solidFill>
                <a:latin typeface="Arial"/>
              </a:rPr>
              <a:t>Systems &amp; Runsets</a:t>
            </a:r>
            <a:endParaRPr b="1" lang="en-US" sz="3200" spc="-1" strike="noStrike">
              <a:solidFill>
                <a:srgbClr val="0d2b88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3720" y="1371240"/>
            <a:ext cx="8964360" cy="5257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60360" indent="-360360">
              <a:spcBef>
                <a:spcPts val="17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veTrain System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what the sim do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components included a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flow of light and signals through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s inputs, outputs, and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74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veTrain Runset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how the sim does 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using WaveTrain system—many runsets, on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value of system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9880">
              <a:spcBef>
                <a:spcPts val="1500"/>
              </a:spcBef>
              <a:buClr>
                <a:srgbClr val="000000"/>
              </a:buClr>
              <a:buSzPct val="125000"/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run variables—parameters may depend on run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0">
              <a:spcBef>
                <a:spcPts val="150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8:58:19Z</dcterms:created>
  <dc:creator>M. R. Whiteley</dc:creator>
  <dc:description/>
  <dc:language>en-US</dc:language>
  <cp:lastModifiedBy>whitelem</cp:lastModifiedBy>
  <dcterms:modified xsi:type="dcterms:W3CDTF">2001-09-11T03:21:54Z</dcterms:modified>
  <cp:revision>129</cp:revision>
  <dc:subject/>
  <dc:title>WaveTrain Tutorial Overiew</dc:title>
</cp:coreProperties>
</file>